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B5C3-A554-4A46-9BAA-573178C76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2BB9-2E0D-472E-8334-95AACB7B9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6D73-01A2-4E03-B2E6-D11268230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0F9A-02DC-483E-907C-6D81FC501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78DE-A91A-410B-A164-100957593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E908-3FCB-466F-A392-2EA2A8D7F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3531-58A2-402A-9CF3-FD961EAFD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8D78-643E-4324-8ED8-CC587C91C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7AEB-9673-4045-B0C7-B703479A2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B839-9CA2-4F63-8EE9-1B079D9B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59B2-9515-4B9F-A3F2-52B1BCC9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AE82-A7F3-4CBC-88F4-C1ABD262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D65AA-3DC1-44AA-8C01-23D0C3B66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gg Experi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23320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an egg from the carton…not bo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 it in a glass and cover with vinegar. Wash your hand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it 3 hours observe and record what you s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fully hold your egg and dump out the old vinegar and add fresh vineg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it sit in fresh vinegar overn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ke up and…CAREFULLY hold your egg while dumping the old vinegar and add fresh once m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h off gently and place in a bath of colored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your egg at home and come to school to learn what to do nex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638680" y="-533520"/>
            <a:ext cx="27432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8T14:11:55Z</dcterms:created>
  <dc:creator>ctcriss</dc:creator>
  <dc:description/>
  <dc:language>en-US</dc:language>
  <cp:lastModifiedBy>ctcriss</cp:lastModifiedBy>
  <dcterms:modified xsi:type="dcterms:W3CDTF">2011-04-08T14:12:06Z</dcterms:modified>
  <cp:revision>1</cp:revision>
  <dc:subject/>
  <dc:title>Egg Experiment</dc:title>
</cp:coreProperties>
</file>